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571F-A03F-4322-8EF1-4C8E52A6A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9069-3187-4DD0-AFDB-5C6C9EA6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513F-23B3-4665-93A5-DD2C75D21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648F-049F-405F-ABC2-CB31A871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5D67-E569-4A0B-8FF2-602DCBDA3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1A4C-83CF-4A88-B5FA-7CF56FA0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61E3-1062-456F-9BBD-E51F3DA7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C07F-2974-44D3-8889-A25BE887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EC28-6CF5-4778-86AA-1ED77872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4AE5-0F98-4F24-935D-72551BF8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F5CF-00C2-4046-B1C2-5DE77381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4E47-08E2-42E6-A8F4-0C7E08DF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F531-C734-48E7-B5FC-471299DE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C610-9E47-49B8-9935-AC3E0F01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BB6C-3429-4AFA-A5E1-CFE99C89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8024-FD93-46F1-BEB9-02F04817F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8DC8-7409-4AC7-83BD-B87FE1EAA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4ECB-E197-40A1-8617-9D6CAF27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9068-F062-44FA-97FD-F0076C35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4FC0-8C9F-4C70-AAFA-4D65B8BF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F5B3-B6A2-42FE-ACFF-0F448C4A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2343-0958-4A6F-8C4D-9709094E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863F-B7F0-4D51-96C6-06E57F8F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3BDA-F1BA-4822-B039-963AB3B6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B237-1821-4580-AD9C-5BC50F9CCDC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006C-D5A9-4DD4-A81E-37FD43E7909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Geometry 1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Monday, August 16, 2010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Find, communicate and evaluate patter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GEND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ell Work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 What is a tessellation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ade H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ssella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ductive Reasoning (NB Page 3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ssignment:  Tessellation &amp;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ssignment, Lesson 1.1, problems 1-31(NB page 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Geometry 1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uesday, August 17, 2010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OBJECTIV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Understand and use the basic undefined and defined terms of geomet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Segment postula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BELL WOR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 List the three steps for inductive reaso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de HW (L 1.1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IMS-Number Sen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ints, Lines, Ray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gme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QUIZ on Monda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ssignment: Lesson 1.2, problems 1-27,  Aims Page 5, Tessell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Geometry 1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ursday, August 19, 2010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BJECTI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Understand and use the basic undefined and defined terms of geometr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gment postulat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gend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ell Work:  Write the next number in the sequenc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, 5, 25, 125, ___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1, +1, -2, +2, -3, ___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de HW L1.1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IMS-Finite/Infini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signment: 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.1 Standardized Test Practice, Page 803, problems 1-13, page 60, problems 1-9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XAM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Patterns Monday :o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20:05:51Z</dcterms:created>
  <dc:creator>tstephens</dc:creator>
  <dc:description/>
  <dc:language>en-US</dc:language>
  <cp:lastModifiedBy>tstephens</cp:lastModifiedBy>
  <dcterms:modified xsi:type="dcterms:W3CDTF">2010-08-19T17:46:47Z</dcterms:modified>
  <cp:revision>20</cp:revision>
  <dc:subject/>
  <dc:title>Slide 1</dc:title>
</cp:coreProperties>
</file>